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6AEF1-7CDD-4461-911F-812DA4A91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B3E1-B68E-4854-9463-9F0EA29F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AEE23-A610-42F0-B3FA-F3796C969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A3E09-EF4B-429E-A2D7-80E4DB7B4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E1422-671E-4F6B-B17D-6B4A167B8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5A520-0CEF-4FDD-815F-DFA66467D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45E00-F65F-4148-AB87-B5BEFCB3C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94CE3-37A9-43AE-9D1C-C83B19707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6D1DB-D1A1-4F6A-A297-F5E6F9ED6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1BAC4-11E1-48C4-BC52-E0F3E52AF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DB76D-2A1F-40FC-ABA0-31E4B12B2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4325-0D36-4704-9A40-8961B89EF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265AC-F062-4AC3-B40B-D5FFA118A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35D1C-AFB4-49A9-9080-527E65F1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A9D8D-FC08-4068-B5CD-131624C9D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31B1F-520B-4C62-A54F-E3676254C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5BD04-B39B-4029-B885-EA7D09F0E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47C02-3011-4853-A6D4-084D962AB0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3B76E-FDF1-4619-A22A-6A16FC60D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A95FC-3EE3-48A2-8B0A-3D3AC1C80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C40BB-4CD3-4EF4-B8E2-CE01B0ABD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D3951-FE5A-40D4-B9F8-3F13020D9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EA5FC-6255-468F-9EDC-9B48092D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060E5-E990-46D7-8D67-A2D284306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0DF09-3A0E-48D6-924D-0F3F1852E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57E4F-3B80-4B03-A5DD-B244120F0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BF57A-F16A-4FBC-AB72-4A96DBF6C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060FE-5209-47EF-97D3-7980FA1F3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087E4-174F-4976-9DC0-A2D270102A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9C7E08-93C7-4CDB-90FC-6AE8C5364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4763B-D212-4983-BA3A-FC6D9171C5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B2C15-E93E-4FC6-9BB7-7AE3CFA0A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EFAB1-DEF2-4E62-A64C-C51DCAE7C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A0875-2AA8-427C-9DAB-AADCFA3D0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79EE4-9602-4171-A8B5-929C5A88D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74920-FEFF-4974-B26E-1F1EB56848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C20B8-4FD2-4AEC-A7D1-45AE4143C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8B7F4-6AA3-4ACE-A167-A08CD39DB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CA659-F76A-4BAE-B309-0F0EE457E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BD002-2586-4156-A52A-C4988746F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D0368-5860-4982-860B-93F3568EC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A0B8A4-3CDA-485C-AAB5-E56E3A547D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00E96-302E-4F46-9F60-7C5398D528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7DD13F-8078-4B5D-A67F-13B6E0A36D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33F3-5826-4ABE-84B9-94ED2DD7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DAE9A-66FB-451D-8C42-338B339A2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7E3AED-CD59-40BB-8E45-C426430827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D0A6E-7F42-47A8-B1AE-EA3136506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01BE4-1173-4CD8-907F-EB6E010C4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BAD192-C049-43BF-8B31-DFAB5FB34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79473-BB58-4ADB-B2F9-251467A75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1D618-8E5F-4DB9-922F-ABD138D12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025E1-F3E8-48E3-9421-BA26DEAF7E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7DAC3-CC8B-4DC2-9F86-A80A7E41EE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253261-3CFC-4830-8203-2A41A93F59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2BDFB-8133-407C-A289-9D2E31E6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AD0DB1-4DB8-4B41-ACAD-B945E024AF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669E08-B363-45FD-B04D-A19FE8B67F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5BBA5-39B0-4A93-A6D6-ACA1AE727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DDF7E-D24B-489B-8972-3219567DD8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C9CA9-BA47-41C1-A639-CC512F2A3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BC996-3534-4E4E-947F-F479BD1DE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B66A98-B80D-49EF-9FEF-367716F40E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1F6D9-ACD6-4785-87EC-440818AE8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29FCB-8DE2-4986-86EC-59422D459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BC36A-8895-4A35-AC3A-ED5BBD3C4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7DBE-70A1-4568-BDF7-C390BB4F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555F24-2E11-4638-9915-CBA3BAA6A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6FC01F-76EF-4F41-9542-8A0FE7021E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3C46D5-AD5E-4059-98EE-FB82DF3F1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A1EE-3BC9-48B6-B9EA-24E15FD1D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97F6-6773-4515-857C-9A5D2140A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6A450-8292-4B54-81C4-C9B215A6347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C952C-BBCE-4811-AE26-57FD2C2E2497}" type="datetime">
              <a:rPr b="0" lang="fr-FR"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645F0-B4A9-419D-9B1C-F3AE927FEBA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E0DD7-398F-4FC7-83D8-6603609FF9A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D90BD-81FD-4B68-8A2A-175389B7595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5AD2B-39BE-428B-87BE-79BAE3174F0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191E5-D295-4098-ABDD-912D95001E6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5FBD0-C521-4ED3-ACC8-4D27D023D49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2)</a:t>
            </a:r>
            <a:endParaRPr b="0" lang="en-US" sz="28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ile the L1 elements come from sensor data processing,  the higher abstraction levels carry more information than the sensors can account for : L</a:t>
            </a:r>
            <a:r>
              <a:rPr b="0" lang="fr-FR" sz="2400" spc="-1" strike="noStrike" baseline="-25000">
                <a:solidFill>
                  <a:srgbClr val="000000"/>
                </a:solidFill>
                <a:latin typeface="Perpetua"/>
              </a:rPr>
              <a:t>n</a:t>
            </a:r>
            <a:r>
              <a:rPr b="0" lang="fr-FR" sz="2400" spc="-1" strike="noStrike">
                <a:solidFill>
                  <a:srgbClr val="000000"/>
                </a:solidFill>
                <a:latin typeface="Perpetua"/>
              </a:rPr>
              <a:t> = I + [L</a:t>
            </a:r>
            <a:r>
              <a:rPr b="0" lang="fr-FR" sz="2400" spc="-1" strike="noStrike" baseline="30000">
                <a:solidFill>
                  <a:srgbClr val="000000"/>
                </a:solidFill>
                <a:latin typeface="Perpetua"/>
              </a:rPr>
              <a:t>a</a:t>
            </a:r>
            <a:r>
              <a:rPr b="0" lang="fr-FR" sz="2400" spc="-1" strike="noStrike" baseline="-25000">
                <a:solidFill>
                  <a:srgbClr val="000000"/>
                </a:solidFill>
                <a:latin typeface="Perpetua"/>
              </a:rPr>
              <a:t>n-1</a:t>
            </a:r>
            <a:r>
              <a:rPr b="0" lang="fr-FR" sz="2400" spc="-1" strike="noStrike">
                <a:solidFill>
                  <a:srgbClr val="000000"/>
                </a:solidFill>
                <a:latin typeface="Perpetua"/>
              </a:rPr>
              <a:t>, L</a:t>
            </a:r>
            <a:r>
              <a:rPr b="0" lang="fr-FR" sz="2400" spc="-1" strike="noStrike" baseline="30000">
                <a:solidFill>
                  <a:srgbClr val="000000"/>
                </a:solidFill>
                <a:latin typeface="Perpetua"/>
              </a:rPr>
              <a:t>b</a:t>
            </a:r>
            <a:r>
              <a:rPr b="0" lang="fr-FR" sz="2400" spc="-1" strike="noStrike" baseline="-25000">
                <a:solidFill>
                  <a:srgbClr val="000000"/>
                </a:solidFill>
                <a:latin typeface="Perpetua"/>
              </a:rPr>
              <a:t>n-1</a:t>
            </a:r>
            <a:r>
              <a:rPr b="0" lang="fr-FR" sz="2400" spc="-1" strike="noStrike">
                <a:solidFill>
                  <a:srgbClr val="000000"/>
                </a:solidFill>
                <a:latin typeface="Perpetua"/>
              </a:rPr>
              <a:t>…]</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ere I represent additional information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additional, contextual information results from a set of past computation and reasoning, that have driven the present computatio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ogeneous situation models:</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L</a:t>
            </a:r>
            <a:r>
              <a:rPr b="0" lang="fr-FR" sz="1800" spc="-1" strike="noStrike" baseline="30000">
                <a:solidFill>
                  <a:srgbClr val="000000"/>
                </a:solidFill>
                <a:latin typeface="Perpetua"/>
              </a:rPr>
              <a:t>a</a:t>
            </a:r>
            <a:r>
              <a:rPr b="0" lang="fr-FR" sz="1800" spc="-1" strike="noStrike" baseline="-25000">
                <a:solidFill>
                  <a:srgbClr val="000000"/>
                </a:solidFill>
                <a:latin typeface="Perpetua"/>
              </a:rPr>
              <a:t>n-1</a:t>
            </a:r>
            <a:r>
              <a:rPr b="0" lang="fr-FR" sz="1800" spc="-1" strike="noStrike">
                <a:solidFill>
                  <a:srgbClr val="000000"/>
                </a:solidFill>
                <a:latin typeface="Perpetua"/>
              </a:rPr>
              <a:t>, L</a:t>
            </a:r>
            <a:r>
              <a:rPr b="0" lang="fr-FR" sz="1800" spc="-1" strike="noStrike" baseline="30000">
                <a:solidFill>
                  <a:srgbClr val="000000"/>
                </a:solidFill>
                <a:latin typeface="Perpetua"/>
              </a:rPr>
              <a:t>b</a:t>
            </a:r>
            <a:r>
              <a:rPr b="0" lang="fr-FR" sz="1800" spc="-1" strike="noStrike" baseline="-25000">
                <a:solidFill>
                  <a:srgbClr val="000000"/>
                </a:solidFill>
                <a:latin typeface="Perpetua"/>
              </a:rPr>
              <a:t>n-1</a:t>
            </a:r>
            <a:r>
              <a:rPr b="0" lang="fr-FR" sz="1800" spc="-1" strike="noStrike">
                <a:solidFill>
                  <a:srgbClr val="000000"/>
                </a:solidFill>
                <a:latin typeface="Perpetua"/>
              </a:rPr>
              <a:t>…] set's components are bound differently for each level Ln.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y are tied by a variety of  intra and inter-categories relations: specialization, composition, transition, causality</a:t>
            </a:r>
            <a:endParaRPr b="0" lang="en-US" sz="18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DE2F3-9540-4C8F-8899-C273586376F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3)</a:t>
            </a:r>
            <a:endParaRPr b="0" lang="en-US" sz="2800" spc="-1" strike="noStrike">
              <a:solidFill>
                <a:srgbClr val="696464"/>
              </a:solidFill>
              <a:latin typeface="Franklin Gothic Book"/>
            </a:endParaRPr>
          </a:p>
        </p:txBody>
      </p:sp>
      <p:sp>
        <p:nvSpPr>
          <p:cNvPr id="322"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quirements - functional or non functional expectations from the designer/user of the system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Free: basic, absolute constraints: missing data, sensor value out of range…</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bserver-Dependent (functional): acceptable situations,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ystem (non-functional): produce robust interpretation, maintain the system within some performance range (number of hypotheses, agents…)</a:t>
            </a:r>
            <a:endParaRPr b="0" lang="en-US" sz="1800" spc="-1" strike="noStrike">
              <a:solidFill>
                <a:srgbClr val="000000"/>
              </a:solidFill>
              <a:latin typeface="Perpetua"/>
            </a:endParaRPr>
          </a:p>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arms, as a multi-modal notion reflecting compliance to requirements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ensing devices</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person’s situation (e.g. abnormalities in the person physiological state or current activity, departure from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ystem activity (avoid too many non-robust interpretation, keep open to potential alarming signals, but focused on a limited set of interpretations)</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67420-DE4E-4C4E-B4B1-7235FC524DE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696464"/>
                </a:solidFill>
                <a:latin typeface="Franklin Gothic Book"/>
              </a:rPr>
              <a:t>4. Reasoning (1) </a:t>
            </a:r>
            <a:endParaRPr b="0" lang="en-US" sz="28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ata is noisy, unreliable, scarce and incomplete, with contextual information missing –-  several different situations could generate similar data</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dependency: physiology and activity co-evolve according to complex schemes – a physiological hypotheses will only be considered valid after a certain time</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conjunction: different situation can be true at the same time (e.g. « phonation », « exertion » and « digestion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leads to generate </a:t>
            </a:r>
            <a:r>
              <a:rPr b="1" lang="fr-FR" sz="2400" spc="-1" strike="noStrike">
                <a:solidFill>
                  <a:srgbClr val="000000"/>
                </a:solidFill>
                <a:latin typeface="Perpetua"/>
              </a:rPr>
              <a:t>non-exclusive uncertain hypotheses </a:t>
            </a:r>
            <a:r>
              <a:rPr b="0" lang="fr-FR" sz="2400" spc="-1" strike="noStrike">
                <a:solidFill>
                  <a:srgbClr val="000000"/>
                </a:solidFill>
                <a:latin typeface="Perpetua"/>
              </a:rPr>
              <a:t>for States and Micro-Scenarios</a:t>
            </a:r>
            <a:endParaRPr b="0" lang="en-US" sz="24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8160A-C7A3-4FF1-BA23-A8FAF2FB6D6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6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2)</a:t>
            </a:r>
            <a:endParaRPr b="0" lang="en-US" sz="2800" spc="-1" strike="noStrike">
              <a:solidFill>
                <a:srgbClr val="696464"/>
              </a:solidFill>
              <a:latin typeface="Franklin Gothic Book"/>
            </a:endParaRPr>
          </a:p>
        </p:txBody>
      </p:sp>
      <p:sp>
        <p:nvSpPr>
          <p:cNvPr id="332" name=""/>
          <p:cNvSpPr txBox="1"/>
          <p:nvPr/>
        </p:nvSpPr>
        <p:spPr>
          <a:xfrm>
            <a:off x="914400" y="946080"/>
            <a:ext cx="7772400" cy="507384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 Knowledge Base can encompass all possible situations : states might be combined (for example, having a model for « Exertion » and another for « Exertion+Phonation ») with a network of possible/impossible combination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a non-exhaustive, open world of possible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esides, knowledge about the world being incomplete, it looks reasonable to model an object regardless of what other objects might or might not exi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 this context, there is little sense in trying to decide on which hypothesis is most likely (since it means « more likely than the others », rather than « very likely » )</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ach hypothesis, evaluated separately, is the combination of data from multiple sources into a single model of some aspect of the world, with no strict comparison possible</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valuate the plausibility of each hypothesis with regards only to its data model and the associated inputs' features.</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We will therefore evaluate multiple hypotheses concurrently</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68FFB-6F47-4767-A62F-CC9A35900AC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3)</a:t>
            </a:r>
            <a:endParaRPr b="0" lang="en-US" sz="28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wide panel of events (coughing, wading through deep snow to recover a lost ski...) cannot be inferred from the data, but only « guessed » from the context, and kept or discarded depending on the variations in the input data </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using the abductive relation (with H hypothesis, Y input data) :</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since H  =&gt; Y , then if  Y is observed, H is (only) likely »</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H is impossible whenever Y is not observed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t the State level, this means that the Data is interpreted from the angle of a selected hypothesis</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same States are then interpreted from the angle of Micro-Scenarios, in a given Scenario (broader meaning)</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fore, hypotheses must be predicted, then tested against the data</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3E723-F332-4032-8915-AC7F3F5D8D8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a:t>
            </a:r>
            <a:endParaRPr b="0" lang="en-US" sz="2800" spc="-1" strike="noStrike">
              <a:solidFill>
                <a:srgbClr val="696464"/>
              </a:solidFill>
              <a:latin typeface="Franklin Gothic Book"/>
            </a:endParaRPr>
          </a:p>
        </p:txBody>
      </p:sp>
      <p:sp>
        <p:nvSpPr>
          <p:cNvPr id="342"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rpretation process is framed by</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pecifics of data and resources (knowledge, processing method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high-level requirements (both functional and non-functional)</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se requirements are prone to evolve, to cope in a proactive way with evolving situations (e.g. detection of alarms) or expectations (evolution of the person’s duti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aming occurs at two distinct levels : locally, in the form of prediction/verification processes driving abductive hypotheses management (functional requirements), and globally, in the form of non-functional requirements driving the overall reasoning</a:t>
            </a:r>
            <a:endParaRPr b="0" lang="en-US" sz="20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violation of requirements wil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rigger corrective measures to regulate interpretation: reduce  ambiguity by increasing the confidence level required for confirming hypotheses, reduce processing cost by decreasing the allowed number of simultaneous hypotheses</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or actually raise an Alarm</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17109-54F1-45EC-B05F-ED98AD98EF5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mechanisms to ensure hypothesis follow-up:</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rmination, to discard a hypothesis if it becomes too unlikely (low confidence range for a given time)</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ticipation, to generate new hypotheses at the same given level of abstraction , to reflect changes in the input data; Successors to a given hypothesis are generated if it stays below the high confidence range for some given time (which means that it is no longer likely with regards to the data and that a transition is required)</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oration, to generate new hypotheses at more abstract levels, to explore possible meanings for newly verified hypotheses and ensure the coverage of the hypothesis network and the completeness of the interpretation process; generate Micro-Scenario from State Hypotheses (if the State hypothesis is likely enough for a given time)</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FA2B5-C9C9-4049-B18B-7B29EB0B7A1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1" name="Rectangle 6"/>
          <p:cNvSpPr/>
          <p:nvPr/>
        </p:nvSpPr>
        <p:spPr>
          <a:xfrm>
            <a:off x="9570960" y="-5767560"/>
            <a:ext cx="2286000" cy="17269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prediction consists in deciding which hypotheses should be evaluated next, based on possible transitions between hypotheses</a:t>
            </a:r>
            <a:endParaRPr b="0" lang="en-US" sz="1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may be generated</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ither on a given level of abstraction , to reflect changes in the input data (e.g. replace faulty hypotheses) and ensure the representativeness of the hypothesis network and the accuracy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Anticipation</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or toward more abstract levels, to explore possible meanings for newly veried hypotheses and ensure the coverage of the hypothesis network and the completeness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Exploration</a:t>
            </a:r>
            <a:endParaRPr b="0" lang="en-US" sz="12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ree mechanisms ensure, in a proactive way, that the system follows the evolving situations. They are based on confidence values as well as some parameters such as inertia durations  or timers.</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Termination is meant to discard a hypothesis if it becomes too unlikely (low condence range for at least termination seconds between tk and t0k).</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Anticipation is the process by which a State hypothesis generates Successors if it stays below the high confidence range for at least some given time (which means that it is no longer likely with regards to the data and that a transition is required).</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xploration on the other hand will see a State to Micro-Scenario creation, to explore broader meanings after a data-driven transition (if the State hypothesis is likely enough for a given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3" name=""/>
          <p:cNvSpPr txBox="1"/>
          <p:nvPr/>
        </p:nvSpPr>
        <p:spPr>
          <a:xfrm>
            <a:off x="914400" y="1447560"/>
            <a:ext cx="7772400" cy="1392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diction happens along the links of the Situation Network; following abductive reasoning, Anticipation (L2-L2) and Exploration (L2-L3) are complemented by the Verification process, for which Ln hypotheses need Ln-1 components. </a:t>
            </a:r>
            <a:endParaRPr b="0" lang="en-US" sz="1800" spc="-1" strike="noStrike">
              <a:solidFill>
                <a:srgbClr val="000000"/>
              </a:solidFill>
              <a:latin typeface="Perpetua"/>
            </a:endParaRPr>
          </a:p>
        </p:txBody>
      </p:sp>
      <p:sp>
        <p:nvSpPr>
          <p:cNvPr id="3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8356D-8A01-401D-8E1E-40CC68191CB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7" name="Image 6" descr=""/>
          <p:cNvPicPr/>
          <p:nvPr/>
        </p:nvPicPr>
        <p:blipFill>
          <a:blip r:embed="rId1"/>
          <a:stretch/>
        </p:blipFill>
        <p:spPr>
          <a:xfrm>
            <a:off x="1166760" y="2585880"/>
            <a:ext cx="6396120" cy="26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9" name=""/>
          <p:cNvSpPr txBox="1"/>
          <p:nvPr/>
        </p:nvSpPr>
        <p:spPr>
          <a:xfrm>
            <a:off x="914400" y="1447920"/>
            <a:ext cx="7772400" cy="1172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fter being found unlikely, the Basal State generates possible successors (Light-exertion and Phonation), which eventually results in the creation of a new Micro-Scenario (Phone-call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Light-exertion hypothesis dies away for lack of supportive data.</a:t>
            </a:r>
            <a:endParaRPr b="0" lang="en-US" sz="1600" spc="-1" strike="noStrike">
              <a:solidFill>
                <a:srgbClr val="000000"/>
              </a:solidFill>
              <a:latin typeface="Perpetua"/>
            </a:endParaRPr>
          </a:p>
        </p:txBody>
      </p:sp>
      <p:sp>
        <p:nvSpPr>
          <p:cNvPr id="36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5C409-AB0D-4B3F-99DB-41EE46D03A7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3" name="Image 11" descr=""/>
          <p:cNvPicPr/>
          <p:nvPr/>
        </p:nvPicPr>
        <p:blipFill>
          <a:blip r:embed="rId1"/>
          <a:stretch/>
        </p:blipFill>
        <p:spPr>
          <a:xfrm>
            <a:off x="146160" y="2897280"/>
            <a:ext cx="8816760" cy="32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65"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pothesis verification consists in computing a confidence value H.C which reflect how likely they are, potentially taking some temporal constraints into account (so that hypotheses ranging over long time-scales be considered more favorably for example)</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C = f(c</a:t>
            </a:r>
            <a:r>
              <a:rPr b="0" lang="fr-FR" sz="2000" spc="-1" strike="noStrike" baseline="-25000">
                <a:solidFill>
                  <a:srgbClr val="000000"/>
                </a:solidFill>
                <a:latin typeface="Perpetua"/>
              </a:rPr>
              <a:t>t</a:t>
            </a:r>
            <a:r>
              <a:rPr b="0" lang="fr-FR" sz="2000" spc="-1" strike="noStrike">
                <a:solidFill>
                  <a:srgbClr val="000000"/>
                </a:solidFill>
                <a:latin typeface="Perpetua"/>
              </a:rPr>
              <a:t>, c</a:t>
            </a:r>
            <a:r>
              <a:rPr b="0" lang="fr-FR" sz="2000" spc="-1" strike="noStrike" baseline="-25000">
                <a:solidFill>
                  <a:srgbClr val="000000"/>
                </a:solidFill>
                <a:latin typeface="Perpetua"/>
              </a:rPr>
              <a:t>t-1</a:t>
            </a:r>
            <a:r>
              <a:rPr b="0" lang="fr-FR" sz="2000" spc="-1" strike="noStrike">
                <a:solidFill>
                  <a:srgbClr val="000000"/>
                </a:solidFill>
                <a:latin typeface="Perpetua"/>
              </a:rPr>
              <a:t>, c</a:t>
            </a:r>
            <a:r>
              <a:rPr b="0" lang="fr-FR" sz="2000" spc="-1" strike="noStrike" baseline="-25000">
                <a:solidFill>
                  <a:srgbClr val="000000"/>
                </a:solidFill>
                <a:latin typeface="Perpetua"/>
              </a:rPr>
              <a:t>t-2</a:t>
            </a:r>
            <a:r>
              <a:rPr b="0" lang="fr-FR" sz="2000" spc="-1" strike="noStrike">
                <a:solidFill>
                  <a:srgbClr val="000000"/>
                </a:solidFill>
                <a:latin typeface="Perpetua"/>
              </a:rPr>
              <a:t>, …); c</a:t>
            </a:r>
            <a:r>
              <a:rPr b="0" lang="fr-FR" sz="2000" spc="-1" strike="noStrike" baseline="-25000">
                <a:solidFill>
                  <a:srgbClr val="000000"/>
                </a:solidFill>
                <a:latin typeface="Perpetua"/>
              </a:rPr>
              <a:t>t</a:t>
            </a:r>
            <a:r>
              <a:rPr b="0" lang="fr-FR" sz="2000" spc="-1" strike="noStrike">
                <a:solidFill>
                  <a:srgbClr val="000000"/>
                </a:solidFill>
                <a:latin typeface="Perpetua"/>
              </a:rPr>
              <a:t> =Σ</a:t>
            </a:r>
            <a:r>
              <a:rPr b="0" lang="fr-FR" sz="2000" spc="-1" strike="noStrike" baseline="-25000">
                <a:solidFill>
                  <a:srgbClr val="000000"/>
                </a:solidFill>
                <a:latin typeface="Perpetua"/>
              </a:rPr>
              <a:t>i</a:t>
            </a:r>
            <a:r>
              <a:rPr b="0" lang="fr-FR" sz="2000" spc="-1" strike="noStrike">
                <a:solidFill>
                  <a:srgbClr val="000000"/>
                </a:solidFill>
                <a:latin typeface="Perpetua"/>
              </a:rPr>
              <a:t> ω</a:t>
            </a:r>
            <a:r>
              <a:rPr b="0" lang="fr-FR" sz="2000" spc="-1" strike="noStrike" baseline="-25000">
                <a:solidFill>
                  <a:srgbClr val="000000"/>
                </a:solidFill>
                <a:latin typeface="Perpetua"/>
              </a:rPr>
              <a:t>i</a:t>
            </a:r>
            <a:r>
              <a:rPr b="0" lang="fr-FR" sz="2000" spc="-1" strike="noStrike">
                <a:solidFill>
                  <a:srgbClr val="000000"/>
                </a:solidFill>
                <a:latin typeface="Perpetua"/>
              </a:rPr>
              <a:t>χ</a:t>
            </a:r>
            <a:r>
              <a:rPr b="0" lang="fr-FR" sz="2000" spc="-1" strike="noStrike" baseline="-25000">
                <a:solidFill>
                  <a:srgbClr val="000000"/>
                </a:solidFill>
                <a:latin typeface="Perpetua"/>
              </a:rPr>
              <a:t>i</a:t>
            </a:r>
            <a:r>
              <a:rPr b="0" lang="fr-FR" sz="2000" spc="-1" strike="noStrike">
                <a:solidFill>
                  <a:srgbClr val="000000"/>
                </a:solidFill>
                <a:latin typeface="Perpetua"/>
              </a:rPr>
              <a:t>(Ki,t) where ω is the weight of each component, χ is the function for confidence computation, K represents information data or state level informa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a fuzzy categorization of hypotheses into three confidence ranges: High, Medium and Low</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pending on this result, and driven by current framing operations, a hypothesis could then be kept, expanded, discarded and/or repla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od hypotheses are maintained for as long as they stay likely, and « resampling » is performed by creating others when those fail (Predi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54455-8A15-41F2-B0BA-9454137A0E9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8A901-648D-440C-9D62-5C058C7CAAF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8"/>
          <p:cNvSpPr/>
          <p:nvPr/>
        </p:nvSpPr>
        <p:spPr>
          <a:xfrm>
            <a:off x="4957920" y="3181320"/>
            <a:ext cx="1687320" cy="1314360"/>
          </a:xfrm>
          <a:prstGeom prst="rect">
            <a:avLst/>
          </a:prstGeom>
          <a:solidFill>
            <a:srgbClr val="00ffff"/>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57"/>
          <p:cNvSpPr/>
          <p:nvPr/>
        </p:nvSpPr>
        <p:spPr>
          <a:xfrm>
            <a:off x="1609560" y="3181320"/>
            <a:ext cx="3348360" cy="1314360"/>
          </a:xfrm>
          <a:prstGeom prst="rect">
            <a:avLst/>
          </a:prstGeom>
          <a:solidFill>
            <a:srgbClr val="fad9cd"/>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53"/>
          <p:cNvSpPr/>
          <p:nvPr/>
        </p:nvSpPr>
        <p:spPr>
          <a:xfrm>
            <a:off x="1600200" y="1905120"/>
            <a:ext cx="1771560" cy="1199880"/>
          </a:xfrm>
          <a:prstGeom prst="rect">
            <a:avLst/>
          </a:prstGeom>
          <a:solidFill>
            <a:srgbClr val="ccffcc"/>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51"/>
          <p:cNvSpPr/>
          <p:nvPr/>
        </p:nvSpPr>
        <p:spPr>
          <a:xfrm>
            <a:off x="3436920" y="1905120"/>
            <a:ext cx="3208320" cy="1199880"/>
          </a:xfrm>
          <a:prstGeom prst="rect">
            <a:avLst/>
          </a:prstGeom>
          <a:solidFill>
            <a:srgbClr val="ffff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Rectangle 39"/>
          <p:cNvSpPr/>
          <p:nvPr/>
        </p:nvSpPr>
        <p:spPr>
          <a:xfrm>
            <a:off x="6724800" y="3105000"/>
            <a:ext cx="1649160" cy="1409760"/>
          </a:xfrm>
          <a:prstGeom prst="rect">
            <a:avLst/>
          </a:prstGeom>
          <a:solidFill>
            <a:srgbClr val="bdb5b6"/>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38"/>
          <p:cNvSpPr/>
          <p:nvPr/>
        </p:nvSpPr>
        <p:spPr>
          <a:xfrm>
            <a:off x="6684840" y="4529160"/>
            <a:ext cx="1689120" cy="1201680"/>
          </a:xfrm>
          <a:prstGeom prst="rect">
            <a:avLst/>
          </a:prstGeom>
          <a:solidFill>
            <a:srgbClr val="ff0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31"/>
          <p:cNvSpPr/>
          <p:nvPr/>
        </p:nvSpPr>
        <p:spPr>
          <a:xfrm>
            <a:off x="1600200" y="4529160"/>
            <a:ext cx="5045040" cy="1185840"/>
          </a:xfrm>
          <a:prstGeom prst="rect">
            <a:avLst/>
          </a:prstGeom>
          <a:solidFill>
            <a:srgbClr val="ff8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5. Framing the Interpretation Process: prediction/verification</a:t>
            </a:r>
            <a:endParaRPr b="0" lang="en-US" sz="2400" spc="-1" strike="noStrike">
              <a:solidFill>
                <a:srgbClr val="696464"/>
              </a:solidFill>
              <a:latin typeface="Franklin Gothic Book"/>
            </a:endParaRPr>
          </a:p>
        </p:txBody>
      </p:sp>
      <p:sp>
        <p:nvSpPr>
          <p:cNvPr id="377" name="Espace réservé du numéro de diapositive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7C710-A090-416C-98B8-BF1AAFAD317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cxnSp>
        <p:nvCxnSpPr>
          <p:cNvPr id="378" name="Connecteur droit avec flèche 11"/>
          <p:cNvCxnSpPr/>
          <p:nvPr/>
        </p:nvCxnSpPr>
        <p:spPr>
          <a:xfrm flipV="1">
            <a:off x="1518840" y="5714280"/>
            <a:ext cx="7111080" cy="1080"/>
          </a:xfrm>
          <a:prstGeom prst="straightConnector1">
            <a:avLst/>
          </a:prstGeom>
          <a:ln w="38160">
            <a:solidFill>
              <a:srgbClr val="696464"/>
            </a:solidFill>
            <a:miter/>
            <a:tailEnd len="med" type="arrow" w="med"/>
          </a:ln>
        </p:spPr>
      </p:cxnSp>
      <p:cxnSp>
        <p:nvCxnSpPr>
          <p:cNvPr id="379" name="Connecteur droit avec flèche 13"/>
          <p:cNvCxnSpPr/>
          <p:nvPr/>
        </p:nvCxnSpPr>
        <p:spPr>
          <a:xfrm flipV="1">
            <a:off x="1541880" y="1599840"/>
            <a:ext cx="41760" cy="4131360"/>
          </a:xfrm>
          <a:prstGeom prst="straightConnector1">
            <a:avLst/>
          </a:prstGeom>
          <a:ln w="38160">
            <a:solidFill>
              <a:srgbClr val="646b86"/>
            </a:solidFill>
            <a:miter/>
            <a:tailEnd len="med" type="arrow" w="med"/>
          </a:ln>
        </p:spPr>
      </p:cxnSp>
      <p:sp>
        <p:nvSpPr>
          <p:cNvPr id="380" name="ZoneTexte 14"/>
          <p:cNvSpPr/>
          <p:nvPr/>
        </p:nvSpPr>
        <p:spPr>
          <a:xfrm>
            <a:off x="134280" y="14479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Confidence</a:t>
            </a:r>
            <a:endParaRPr b="0" lang="en-US" sz="1800" spc="-1" strike="noStrike">
              <a:solidFill>
                <a:srgbClr val="000000"/>
              </a:solidFill>
              <a:latin typeface="Arial"/>
            </a:endParaRPr>
          </a:p>
        </p:txBody>
      </p:sp>
      <p:sp>
        <p:nvSpPr>
          <p:cNvPr id="381" name="ZoneTexte 15"/>
          <p:cNvSpPr/>
          <p:nvPr/>
        </p:nvSpPr>
        <p:spPr>
          <a:xfrm>
            <a:off x="463320" y="246204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High</a:t>
            </a:r>
            <a:endParaRPr b="0" lang="en-US" sz="1800" spc="-1" strike="noStrike">
              <a:solidFill>
                <a:srgbClr val="000000"/>
              </a:solidFill>
              <a:latin typeface="Arial"/>
            </a:endParaRPr>
          </a:p>
        </p:txBody>
      </p:sp>
      <p:sp>
        <p:nvSpPr>
          <p:cNvPr id="382" name="ZoneTexte 16"/>
          <p:cNvSpPr/>
          <p:nvPr/>
        </p:nvSpPr>
        <p:spPr>
          <a:xfrm>
            <a:off x="500040" y="4964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Low</a:t>
            </a:r>
            <a:endParaRPr b="0" lang="en-US" sz="1800" spc="-1" strike="noStrike">
              <a:solidFill>
                <a:srgbClr val="000000"/>
              </a:solidFill>
              <a:latin typeface="Arial"/>
            </a:endParaRPr>
          </a:p>
        </p:txBody>
      </p:sp>
      <p:sp>
        <p:nvSpPr>
          <p:cNvPr id="383" name="Connecteur droit 18"/>
          <p:cNvSpPr/>
          <p:nvPr/>
        </p:nvSpPr>
        <p:spPr>
          <a:xfrm flipV="1">
            <a:off x="1522440" y="4514400"/>
            <a:ext cx="685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ZoneTexte 19"/>
          <p:cNvSpPr/>
          <p:nvPr/>
        </p:nvSpPr>
        <p:spPr>
          <a:xfrm>
            <a:off x="2985120" y="496404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Falling down confidence</a:t>
            </a:r>
            <a:endParaRPr b="0" lang="en-US" sz="1800" spc="-1" strike="noStrike">
              <a:solidFill>
                <a:srgbClr val="000000"/>
              </a:solidFill>
              <a:latin typeface="Arial"/>
            </a:endParaRPr>
          </a:p>
        </p:txBody>
      </p:sp>
      <p:sp>
        <p:nvSpPr>
          <p:cNvPr id="385" name="ZoneTexte 20"/>
          <p:cNvSpPr/>
          <p:nvPr/>
        </p:nvSpPr>
        <p:spPr>
          <a:xfrm>
            <a:off x="7951320" y="579132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Time</a:t>
            </a:r>
            <a:endParaRPr b="0" lang="en-US" sz="1800" spc="-1" strike="noStrike">
              <a:solidFill>
                <a:srgbClr val="000000"/>
              </a:solidFill>
              <a:latin typeface="Arial"/>
            </a:endParaRPr>
          </a:p>
        </p:txBody>
      </p:sp>
      <p:sp>
        <p:nvSpPr>
          <p:cNvPr id="386" name="ZoneTexte 21"/>
          <p:cNvSpPr/>
          <p:nvPr/>
        </p:nvSpPr>
        <p:spPr>
          <a:xfrm>
            <a:off x="2233440" y="36576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Lowering confidence</a:t>
            </a:r>
            <a:endParaRPr b="0" lang="en-US" sz="1800" spc="-1" strike="noStrike">
              <a:solidFill>
                <a:srgbClr val="000000"/>
              </a:solidFill>
              <a:latin typeface="Arial"/>
            </a:endParaRPr>
          </a:p>
        </p:txBody>
      </p:sp>
      <p:sp>
        <p:nvSpPr>
          <p:cNvPr id="387" name="Connecteur droit 22"/>
          <p:cNvSpPr/>
          <p:nvPr/>
        </p:nvSpPr>
        <p:spPr>
          <a:xfrm>
            <a:off x="1542960" y="3144960"/>
            <a:ext cx="518184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ZoneTexte 23"/>
          <p:cNvSpPr/>
          <p:nvPr/>
        </p:nvSpPr>
        <p:spPr>
          <a:xfrm>
            <a:off x="1606680" y="2362320"/>
            <a:ext cx="170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Confirmation</a:t>
            </a:r>
            <a:endParaRPr b="0" lang="en-US" sz="1800" spc="-1" strike="noStrike">
              <a:solidFill>
                <a:srgbClr val="000000"/>
              </a:solidFill>
              <a:latin typeface="Arial"/>
            </a:endParaRPr>
          </a:p>
        </p:txBody>
      </p:sp>
      <p:sp>
        <p:nvSpPr>
          <p:cNvPr id="389" name="Connecteur droit 25"/>
          <p:cNvSpPr/>
          <p:nvPr/>
        </p:nvSpPr>
        <p:spPr>
          <a:xfrm>
            <a:off x="4971960" y="3143160"/>
            <a:ext cx="0" cy="13716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ZoneTexte 27"/>
          <p:cNvSpPr/>
          <p:nvPr/>
        </p:nvSpPr>
        <p:spPr>
          <a:xfrm>
            <a:off x="6185160" y="5943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death</a:t>
            </a:r>
            <a:endParaRPr b="0" lang="en-US" sz="1800" spc="-1" strike="noStrike">
              <a:solidFill>
                <a:srgbClr val="000000"/>
              </a:solidFill>
              <a:latin typeface="Arial"/>
            </a:endParaRPr>
          </a:p>
        </p:txBody>
      </p:sp>
      <p:sp>
        <p:nvSpPr>
          <p:cNvPr id="391" name="ZoneTexte 29"/>
          <p:cNvSpPr/>
          <p:nvPr/>
        </p:nvSpPr>
        <p:spPr>
          <a:xfrm>
            <a:off x="6733080" y="36576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Termination</a:t>
            </a:r>
            <a:endParaRPr b="0" lang="en-US" sz="1800" spc="-1" strike="noStrike">
              <a:solidFill>
                <a:srgbClr val="000000"/>
              </a:solidFill>
              <a:latin typeface="Arial"/>
            </a:endParaRPr>
          </a:p>
        </p:txBody>
      </p:sp>
      <p:sp>
        <p:nvSpPr>
          <p:cNvPr id="392" name="ZoneTexte 30"/>
          <p:cNvSpPr/>
          <p:nvPr/>
        </p:nvSpPr>
        <p:spPr>
          <a:xfrm>
            <a:off x="4241520" y="59436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anticipation</a:t>
            </a:r>
            <a:endParaRPr b="0" lang="en-US" sz="1800" spc="-1" strike="noStrike">
              <a:solidFill>
                <a:srgbClr val="000000"/>
              </a:solidFill>
              <a:latin typeface="Arial"/>
            </a:endParaRPr>
          </a:p>
        </p:txBody>
      </p:sp>
      <p:sp>
        <p:nvSpPr>
          <p:cNvPr id="393" name="ZoneTexte 33"/>
          <p:cNvSpPr/>
          <p:nvPr/>
        </p:nvSpPr>
        <p:spPr>
          <a:xfrm>
            <a:off x="5089680" y="365760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Anticipation</a:t>
            </a:r>
            <a:endParaRPr b="0" lang="en-US" sz="1800" spc="-1" strike="noStrike">
              <a:solidFill>
                <a:srgbClr val="000000"/>
              </a:solidFill>
              <a:latin typeface="Arial"/>
            </a:endParaRPr>
          </a:p>
        </p:txBody>
      </p:sp>
      <p:sp>
        <p:nvSpPr>
          <p:cNvPr id="394" name="Connecteur droit 40"/>
          <p:cNvSpPr/>
          <p:nvPr/>
        </p:nvSpPr>
        <p:spPr>
          <a:xfrm>
            <a:off x="6684840" y="1676520"/>
            <a:ext cx="0" cy="40669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Connecteur droit 50"/>
          <p:cNvSpPr/>
          <p:nvPr/>
        </p:nvSpPr>
        <p:spPr>
          <a:xfrm>
            <a:off x="4971960" y="4514760"/>
            <a:ext cx="0" cy="122868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ZoneTexte 52"/>
          <p:cNvSpPr/>
          <p:nvPr/>
        </p:nvSpPr>
        <p:spPr>
          <a:xfrm>
            <a:off x="7091280" y="4964040"/>
            <a:ext cx="79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Alarm</a:t>
            </a:r>
            <a:endParaRPr b="0" lang="en-US" sz="1800" spc="-1" strike="noStrike">
              <a:solidFill>
                <a:srgbClr val="000000"/>
              </a:solidFill>
              <a:latin typeface="Arial"/>
            </a:endParaRPr>
          </a:p>
        </p:txBody>
      </p:sp>
      <p:sp>
        <p:nvSpPr>
          <p:cNvPr id="397" name="Connecteur droit 54"/>
          <p:cNvSpPr/>
          <p:nvPr/>
        </p:nvSpPr>
        <p:spPr>
          <a:xfrm>
            <a:off x="3371760" y="1676520"/>
            <a:ext cx="0" cy="14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ZoneTexte 55"/>
          <p:cNvSpPr/>
          <p:nvPr/>
        </p:nvSpPr>
        <p:spPr>
          <a:xfrm>
            <a:off x="2423520" y="5954760"/>
            <a:ext cx="155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exploration</a:t>
            </a:r>
            <a:endParaRPr b="0" lang="en-US" sz="1800" spc="-1" strike="noStrike">
              <a:solidFill>
                <a:srgbClr val="000000"/>
              </a:solidFill>
              <a:latin typeface="Arial"/>
            </a:endParaRPr>
          </a:p>
        </p:txBody>
      </p:sp>
      <p:sp>
        <p:nvSpPr>
          <p:cNvPr id="399" name="Connecteur droit 56"/>
          <p:cNvSpPr/>
          <p:nvPr/>
        </p:nvSpPr>
        <p:spPr>
          <a:xfrm>
            <a:off x="3371760" y="3144960"/>
            <a:ext cx="0" cy="260964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ZoneTexte 59"/>
          <p:cNvSpPr/>
          <p:nvPr/>
        </p:nvSpPr>
        <p:spPr>
          <a:xfrm>
            <a:off x="4190400" y="2362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Exploration</a:t>
            </a:r>
            <a:endParaRPr b="0" lang="en-US" sz="1800" spc="-1" strike="noStrike">
              <a:solidFill>
                <a:srgbClr val="000000"/>
              </a:solidFill>
              <a:latin typeface="Arial"/>
            </a:endParaRPr>
          </a:p>
        </p:txBody>
      </p:sp>
      <p:sp>
        <p:nvSpPr>
          <p:cNvPr id="401" name="ZoneTexte 34"/>
          <p:cNvSpPr/>
          <p:nvPr/>
        </p:nvSpPr>
        <p:spPr>
          <a:xfrm>
            <a:off x="272880" y="370692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403" name=""/>
          <p:cNvSpPr txBox="1"/>
          <p:nvPr/>
        </p:nvSpPr>
        <p:spPr>
          <a:xfrm>
            <a:off x="914400" y="853920"/>
            <a:ext cx="7772400" cy="5166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case of non-compliant situations, and depending on their type, decisions can be taken, either to trigger corrective measures or raise alarms (if the violation persists for a given tim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1 type (static): basic and context-free violations -  either the violation is dismissed as an outlier or an actual Alarm message is sent (depending on the duration of this violatio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type (dynamic): observer-dependent (expectations not met, unexpected situation). Being winded, or not performing the expected activity  may or not be considered as worrying. Guidelines are needed to decide whether:</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t least one compliant hypothesis is likely no alarm is generated, or</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 set of non-compliant hypothesis is observed, then raise an alarm. </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 case of doubt,  trigger the forced verification of some hypothes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3 type (dynamic): how well the system works (non-functional requirements): lack or plethora of likely hypotheses (low effectivenes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The system's operation can be amended to try and correct these deviations, for example by modifying confidence or duration thresholds (ensuring parsimony and readability)</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 </a:t>
            </a:r>
            <a:r>
              <a:rPr b="0" lang="fr-FR" sz="1400" spc="-1" strike="noStrike">
                <a:solidFill>
                  <a:srgbClr val="000000"/>
                </a:solidFill>
                <a:latin typeface="Perpetua"/>
              </a:rPr>
              <a:t>Alarms would still be raised if the low interpretation quality persists. </a:t>
            </a:r>
            <a:endParaRPr b="0" lang="en-US" sz="1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and A3 levels are prone to evolve as the person's context changes </a:t>
            </a:r>
            <a:endParaRPr b="0" lang="en-US" sz="1800" spc="-1" strike="noStrike">
              <a:solidFill>
                <a:srgbClr val="000000"/>
              </a:solidFill>
              <a:latin typeface="Perpetua"/>
            </a:endParaRPr>
          </a:p>
        </p:txBody>
      </p:sp>
      <p:sp>
        <p:nvSpPr>
          <p:cNvPr id="404"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5"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6"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D96B7-B4B4-4841-AC8A-66BA2221DAC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j’en suis là)</a:t>
            </a:r>
            <a:endParaRPr b="0" lang="en-US" sz="2800" spc="-1" strike="noStrike">
              <a:solidFill>
                <a:srgbClr val="696464"/>
              </a:solidFill>
              <a:latin typeface="Franklin Gothic Book"/>
            </a:endParaRPr>
          </a:p>
        </p:txBody>
      </p:sp>
      <p:sp>
        <p:nvSpPr>
          <p:cNvPr id="408"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2E4FE-7EB5-404A-9F4F-FD6C0BE4367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1" name="Image 5" descr=""/>
          <p:cNvPicPr/>
          <p:nvPr/>
        </p:nvPicPr>
        <p:blipFill>
          <a:blip r:embed="rId1"/>
          <a:stretch/>
        </p:blipFill>
        <p:spPr>
          <a:xfrm>
            <a:off x="946080" y="1714680"/>
            <a:ext cx="725184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1680" y="274320"/>
            <a:ext cx="2995560" cy="1306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3" name=""/>
          <p:cNvSpPr txBox="1"/>
          <p:nvPr/>
        </p:nvSpPr>
        <p:spPr>
          <a:xfrm>
            <a:off x="914400" y="2077920"/>
            <a:ext cx="7772400" cy="394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for multiple, heterogeneous entities to be handled through a unified communication/cooperation frame.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wide-ranging expressiveness of representation, processing and control</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building blocks: a Knowledge Base of data models tailored to the Observed Person, a set of Observer-defined Requirements, and a population of Agents to evaluate incoming data against the KB.</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ganized around a shared environment, and filters: rules which power agent action and interaction and enforce compliance to the Requirements</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inspired, rule-governed agents as a way to design declarative, flexible context-aware policy-driven systems, embedding sensemaking within constraints from various domains.</a:t>
            </a:r>
            <a:endParaRPr b="0" lang="en-US" sz="2000" spc="-1" strike="noStrike">
              <a:solidFill>
                <a:srgbClr val="000000"/>
              </a:solidFill>
              <a:latin typeface="Perpetua"/>
            </a:endParaRPr>
          </a:p>
        </p:txBody>
      </p:sp>
      <p:sp>
        <p:nvSpPr>
          <p:cNvPr id="4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AAE30-E8F9-4424-ABF5-52A40919DDA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7" name="Image 6" descr=""/>
          <p:cNvPicPr/>
          <p:nvPr/>
        </p:nvPicPr>
        <p:blipFill>
          <a:blip r:embed="rId1"/>
          <a:stretch/>
        </p:blipFill>
        <p:spPr>
          <a:xfrm>
            <a:off x="3174840" y="274680"/>
            <a:ext cx="5726160" cy="15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2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06487-0C16-4E95-82D1-4DC8A8349B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3" name="Image 6" descr=""/>
          <p:cNvPicPr/>
          <p:nvPr/>
        </p:nvPicPr>
        <p:blipFill>
          <a:blip r:embed="rId1"/>
          <a:stretch/>
        </p:blipFill>
        <p:spPr>
          <a:xfrm>
            <a:off x="781200" y="1085760"/>
            <a:ext cx="7581600" cy="4686480"/>
          </a:xfrm>
          <a:prstGeom prst="rect">
            <a:avLst/>
          </a:prstGeom>
          <a:ln w="0">
            <a:noFill/>
          </a:ln>
        </p:spPr>
      </p:pic>
      <p:sp>
        <p:nvSpPr>
          <p:cNvPr id="424" name="Rectangle 7"/>
          <p:cNvSpPr/>
          <p:nvPr/>
        </p:nvSpPr>
        <p:spPr>
          <a:xfrm>
            <a:off x="4876920" y="4191120"/>
            <a:ext cx="1103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Requirement violation</a:t>
            </a:r>
            <a:endParaRPr b="0" lang="en-US" sz="1200" spc="-1" strike="noStrike">
              <a:solidFill>
                <a:srgbClr val="000000"/>
              </a:solidFill>
              <a:latin typeface="Arial"/>
            </a:endParaRPr>
          </a:p>
        </p:txBody>
      </p:sp>
      <p:sp>
        <p:nvSpPr>
          <p:cNvPr id="425" name="Rectangle 8"/>
          <p:cNvSpPr/>
          <p:nvPr/>
        </p:nvSpPr>
        <p:spPr>
          <a:xfrm>
            <a:off x="4267080" y="3637080"/>
            <a:ext cx="801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nst/Op</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Fil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kinds of agents, with varying degrees of autonomy</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pending on their class, agents follow a specific life-cycle described as an automata of Policies, which dictate which filters they subscribe to. These filters' conditions are checked via the rule engine in the order of their weight .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lters are expressed as condition-action rules and, when triggered, activate their subscriber agents towards some relevant processes.</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filters are powered by a Rule Engine, whose frequency serves as a clock for the MAS.</a:t>
            </a:r>
            <a:endParaRPr b="0" lang="en-US" sz="2400" spc="-1" strike="noStrike">
              <a:solidFill>
                <a:srgbClr val="000000"/>
              </a:solidFill>
              <a:latin typeface="Perpetua"/>
            </a:endParaRPr>
          </a:p>
        </p:txBody>
      </p:sp>
      <p:sp>
        <p:nvSpPr>
          <p:cNvPr id="4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3E995-9E47-480F-A6CC-11E665A9800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2" name=""/>
          <p:cNvSpPr txBox="1"/>
          <p:nvPr/>
        </p:nvSpPr>
        <p:spPr>
          <a:xfrm>
            <a:off x="914400" y="1118880"/>
            <a:ext cx="7772400" cy="49006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gents (L1) process sensor data</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Hypothesis Agent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nage hypotheses at the State (L2)  and Micro-Scenario levels (L3).</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compute confidence values H.C to reflect how likely the hypothesis is (Verica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d can create other agents to undertake possible transitions (Predic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therefore a dynamic population of Hypothesis agents (at most one agent per hypothesis in the KB, and the population size can be bounded by a non-functional requirement)</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Probe Agents react to Requirement violations. Their function is to modify the Filters' parameters to try and keep the system in accordance with these Requirements (corrective measures), or to raise Alarm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8BE15-72D9-4EB9-9247-B73BC61B7EF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7" name=""/>
          <p:cNvSpPr txBox="1"/>
          <p:nvPr/>
        </p:nvSpPr>
        <p:spPr>
          <a:xfrm>
            <a:off x="914400" y="1118880"/>
            <a:ext cx="7772400" cy="4900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hared environment is a tuple (Y, H.attr, θ, &amp;A),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Y the Data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attr the Hypothesis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θthe system's parameters (inertia duration δ, confidence thresholds, number of agents, opening degreeε)</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mp;A pointers to all agents</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kinds of filters: Operational Fop govern basic agent processes, Institutional Finst govern alarms and manage policies (including Prediction/Verication)</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ilter is a tuple {Id, Ω, [C], f, [B],  Acm],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d is a unique identi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Ω  is a weight (to resolve conflicts)</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C] is a set of conditions (rules) for activation</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f is a flag to bypass the conditions (always true or always fals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B] the set of bearers: agents which subscribe to this filt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Acm The activation message (which may contain data); can take the form of an agent message language or remote method calling</a:t>
            </a:r>
            <a:endParaRPr b="0" lang="en-US" sz="1600" spc="-1" strike="noStrike">
              <a:solidFill>
                <a:srgbClr val="000000"/>
              </a:solidFill>
              <a:latin typeface="Perpetua"/>
            </a:endParaRPr>
          </a:p>
        </p:txBody>
      </p:sp>
      <p:sp>
        <p:nvSpPr>
          <p:cNvPr id="4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7A1E4-057C-4B0E-9960-1A29A48DFE8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Data agents</a:t>
            </a:r>
            <a:endParaRPr b="0" lang="en-US" sz="2800" spc="-1" strike="noStrike">
              <a:solidFill>
                <a:srgbClr val="696464"/>
              </a:solidFill>
              <a:latin typeface="Franklin Gothic Book"/>
            </a:endParaRPr>
          </a:p>
        </p:txBody>
      </p:sp>
      <p:sp>
        <p:nvSpPr>
          <p:cNvPr id="442" name=""/>
          <p:cNvSpPr txBox="1"/>
          <p:nvPr/>
        </p:nvSpPr>
        <p:spPr>
          <a:xfrm>
            <a:off x="914400" y="1447920"/>
            <a:ext cx="7772400" cy="340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ata agents process sensor data and extract features for each new input value from the associated sensor (Heart Rate, Skin Temperature...) </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subscribe only to Policy Change Filters (pertaining to the A1 level) which control whether the input data should be seen as noise or regular input</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or example, an adult man is not supposed to have a Heart Rate value above 220 - age beats per minute. A higher value trigger the FP-rc filter and put the Data agent in a Corrective policy, whereby it would discard/smooth the input value. The features put in Env are then stamped as corrected.</a:t>
            </a:r>
            <a:endParaRPr b="0" lang="en-US" sz="2000" spc="-1" strike="noStrike">
              <a:solidFill>
                <a:srgbClr val="000000"/>
              </a:solidFill>
              <a:latin typeface="Perpetua"/>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BA914-8870-4C1C-9B45-594E751E37D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46" name="Image 7" descr=""/>
          <p:cNvPicPr/>
          <p:nvPr/>
        </p:nvPicPr>
        <p:blipFill>
          <a:blip r:embed="rId1"/>
          <a:stretch/>
        </p:blipFill>
        <p:spPr>
          <a:xfrm>
            <a:off x="2647800" y="4502160"/>
            <a:ext cx="4457880" cy="115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48" name=""/>
          <p:cNvSpPr txBox="1"/>
          <p:nvPr/>
        </p:nvSpPr>
        <p:spPr>
          <a:xfrm>
            <a:off x="914400" y="1447920"/>
            <a:ext cx="7772400" cy="4556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Hypothesis Agent is defined as a tuple H = {Id, class, K,ν,C, R}, with:</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 a unique identifier (name of the hypothesi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lass : the agent's class, which defines the agent's methods and policie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the components from which the confidence value is computed</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ν: successor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C: confidence value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R: confidence range (low, medium, high)</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 current Policy with its local variables (confidence and time delay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ach agent uses its own confidence computation model, thus forming a heterogeneous set. </a:t>
            </a:r>
            <a:endParaRPr b="0" lang="en-US" sz="2000" spc="-1" strike="noStrike">
              <a:solidFill>
                <a:srgbClr val="000000"/>
              </a:solidFill>
              <a:latin typeface="Perpetua"/>
            </a:endParaRPr>
          </a:p>
        </p:txBody>
      </p:sp>
      <p:sp>
        <p:nvSpPr>
          <p:cNvPr id="4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D19FA-2FC6-42E4-AAC2-69E0FB29088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 – Abductive Agents for Human Activity Monitoring</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Background and go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Main issue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Representing situations, requirements and alarm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4. Reason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5. Framing the Interpretation Proc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6. Multi-Agent System: Data, Hypothesis and Probe agents</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695F3-B005-47D3-A5D3-61CA81AA54D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53" name=""/>
          <p:cNvSpPr txBox="1"/>
          <p:nvPr/>
        </p:nvSpPr>
        <p:spPr>
          <a:xfrm>
            <a:off x="914400" y="1447560"/>
            <a:ext cx="7772400" cy="207324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rational filters govern the activation of basic processes such as the transmission of information from input data (Fop perception, one per feature) or generated agents (Fop successors, one per State agent), confidence computation (Fop verification) and the creation of other agents (Fop exploration, Fop anticipation)</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itutional filters (FP) govern Policy changes</a:t>
            </a:r>
            <a:endParaRPr b="0" lang="en-US" sz="2000" spc="-1" strike="noStrike">
              <a:solidFill>
                <a:srgbClr val="000000"/>
              </a:solidFill>
              <a:latin typeface="Perpetua"/>
            </a:endParaRPr>
          </a:p>
        </p:txBody>
      </p:sp>
      <p:sp>
        <p:nvSpPr>
          <p:cNvPr id="4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DE540-138E-46E2-98A4-6478A09733D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57" name="Image 6" descr=""/>
          <p:cNvPicPr/>
          <p:nvPr/>
        </p:nvPicPr>
        <p:blipFill>
          <a:blip r:embed="rId1"/>
          <a:stretch/>
        </p:blipFill>
        <p:spPr>
          <a:xfrm>
            <a:off x="2171880" y="3695760"/>
            <a:ext cx="5010120" cy="212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59" name=""/>
          <p:cNvSpPr txBox="1"/>
          <p:nvPr/>
        </p:nvSpPr>
        <p:spPr>
          <a:xfrm>
            <a:off x="914400" y="1119240"/>
            <a:ext cx="7772400" cy="30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role of the Probe agents is to « frame » the overall interpretation process, so that functional and non-functional requirements are met, and/or raise alarms. They follow different automata, depending on their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Agents follow various polici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gular Oper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orrective Measures (modify parameters in Env, such as δ, which impacts the agents' policy changes or modify filters, by setting filter flag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larm-raising. </a:t>
            </a:r>
            <a:endParaRPr b="0" lang="en-US" sz="1600" spc="-1" strike="noStrike">
              <a:solidFill>
                <a:srgbClr val="000000"/>
              </a:solidFill>
              <a:latin typeface="Perpetua"/>
            </a:endParaRPr>
          </a:p>
        </p:txBody>
      </p:sp>
      <p:sp>
        <p:nvSpPr>
          <p:cNvPr id="4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0E993-3648-4527-9651-ED4232AF8BE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463" name="Grouper 8"/>
          <p:cNvGrpSpPr/>
          <p:nvPr/>
        </p:nvGrpSpPr>
        <p:grpSpPr>
          <a:xfrm>
            <a:off x="-730080" y="3995640"/>
            <a:ext cx="7323120" cy="1992240"/>
            <a:chOff x="-730080" y="3995640"/>
            <a:chExt cx="7323120" cy="1992240"/>
          </a:xfrm>
        </p:grpSpPr>
        <p:pic>
          <p:nvPicPr>
            <p:cNvPr id="464" name="Image 7" descr=""/>
            <p:cNvPicPr/>
            <p:nvPr/>
          </p:nvPicPr>
          <p:blipFill>
            <a:blip r:embed="rId1"/>
            <a:stretch/>
          </p:blipFill>
          <p:spPr>
            <a:xfrm>
              <a:off x="-730080" y="3995640"/>
              <a:ext cx="7323120" cy="1808280"/>
            </a:xfrm>
            <a:prstGeom prst="rect">
              <a:avLst/>
            </a:prstGeom>
            <a:ln w="0">
              <a:noFill/>
            </a:ln>
          </p:spPr>
        </p:pic>
        <p:sp>
          <p:nvSpPr>
            <p:cNvPr id="465" name="Rectangle 7"/>
            <p:cNvSpPr/>
            <p:nvPr/>
          </p:nvSpPr>
          <p:spPr>
            <a:xfrm>
              <a:off x="-730080" y="3995640"/>
              <a:ext cx="3231000" cy="1992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67" name=""/>
          <p:cNvSpPr txBox="1"/>
          <p:nvPr/>
        </p:nvSpPr>
        <p:spPr>
          <a:xfrm>
            <a:off x="914400" y="1118880"/>
            <a:ext cx="7772400" cy="2390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3-level (non-functional requirements) examples of Corrective policies for the Readability and Parsimony probes, which measure the quality of interpretation based on the number of currently likely and alive hypotheses</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Readability probe can adjust some parameters in Env when the number of currently-likely hypotheses is low: for example, reducing the duration of Anticipation will push more agents in the Anticipation policy and thus increase resampling; increasing the Thigh threshold will discriminate more so that only the most likely hypotheses are validated (when there are too many likely ones, which results in ambiguity).</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46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FF3A2-FC70-436C-90DF-C693BDD4FA0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71" name="Image 6" descr=""/>
          <p:cNvPicPr/>
          <p:nvPr/>
        </p:nvPicPr>
        <p:blipFill>
          <a:blip r:embed="rId1"/>
          <a:stretch/>
        </p:blipFill>
        <p:spPr>
          <a:xfrm>
            <a:off x="1279440" y="3679920"/>
            <a:ext cx="6756480" cy="2311200"/>
          </a:xfrm>
          <a:prstGeom prst="rect">
            <a:avLst/>
          </a:prstGeom>
          <a:ln w="0">
            <a:noFill/>
          </a:ln>
        </p:spPr>
      </p:pic>
      <p:sp>
        <p:nvSpPr>
          <p:cNvPr id="472" name="Rectangle 8"/>
          <p:cNvSpPr/>
          <p:nvPr/>
        </p:nvSpPr>
        <p:spPr>
          <a:xfrm flipH="1">
            <a:off x="3811680" y="528948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3" name="Rectangle 9"/>
          <p:cNvSpPr/>
          <p:nvPr/>
        </p:nvSpPr>
        <p:spPr>
          <a:xfrm flipH="1">
            <a:off x="3800520" y="515952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4" name="Rectangle 10"/>
          <p:cNvSpPr/>
          <p:nvPr/>
        </p:nvSpPr>
        <p:spPr>
          <a:xfrm flipH="1">
            <a:off x="3715560" y="4170240"/>
            <a:ext cx="590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1,n2]</a:t>
            </a:r>
            <a:endParaRPr b="0" lang="en-US" sz="1000" spc="-1" strike="noStrike">
              <a:solidFill>
                <a:srgbClr val="000000"/>
              </a:solidFill>
              <a:latin typeface="Arial"/>
            </a:endParaRPr>
          </a:p>
        </p:txBody>
      </p:sp>
      <p:sp>
        <p:nvSpPr>
          <p:cNvPr id="475" name="Rectangle 11"/>
          <p:cNvSpPr/>
          <p:nvPr/>
        </p:nvSpPr>
        <p:spPr>
          <a:xfrm flipH="1">
            <a:off x="3731400" y="4768920"/>
            <a:ext cx="7686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n1,n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903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user)</a:t>
            </a:r>
            <a:endParaRPr b="0" lang="en-US" sz="2800" spc="-1" strike="noStrike">
              <a:solidFill>
                <a:srgbClr val="696464"/>
              </a:solidFill>
              <a:latin typeface="Franklin Gothic Book"/>
            </a:endParaRPr>
          </a:p>
        </p:txBody>
      </p:sp>
      <p:sp>
        <p:nvSpPr>
          <p:cNvPr id="287" name=""/>
          <p:cNvSpPr txBox="1"/>
          <p:nvPr/>
        </p:nvSpPr>
        <p:spPr>
          <a:xfrm>
            <a:off x="914400" y="1177920"/>
            <a:ext cx="7772400" cy="484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ork conducted in the framework of the SuPerCo project of the French Defense Procurement Agency (DGA), where the monitored person is a soldier on the battlefield, wearing a combination of physiological (heart rate, breath rate...) and actimetric (acceleration, position) unobtrusive sensors</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 a system able to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nitor a person, using data from various ambulatory sensors and expectations regarding his planned activity, under requirements both functional and non-functional</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it personalized models, contextual information and a priori knowledge regarding the soldier’s mission and current activity</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ecause of difficulties to conduct experiments in this field of application, daily life scenarios, both indoor (office activities) and outdoor (cycling, hiking or skying activities), are considered</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L. Amate, C. Garbay: A Multi-Hypothesis Monitoring Architecture: Application to Ambulatory Physiology. STAIRS 2012: 348-359</a:t>
            </a:r>
            <a:endParaRPr b="0" lang="en-US" sz="1800" spc="-1" strike="noStrike">
              <a:solidFill>
                <a:srgbClr val="000000"/>
              </a:solidFill>
              <a:latin typeface="Perpetua"/>
            </a:endParaRPr>
          </a:p>
        </p:txBody>
      </p:sp>
      <p:sp>
        <p:nvSpPr>
          <p:cNvPr id="288"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EC4C3-F3D4-43CA-9FA7-A29378946A3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designer)</a:t>
            </a:r>
            <a:endParaRPr b="0" lang="en-US" sz="28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sign a syst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able to integrate heterogeneous multi-sensor dat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able: able to cope with the a priori context of a mission and the physiological profile of the soldier</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ive: able to dynamically adjust the sensing, fusion and inferencing processes in order to cope with the evolving context of a mission and the individual physiological vari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iant and dependable: answering to explicitely declared requirements</a:t>
            </a:r>
            <a:endParaRPr b="0" lang="en-US" sz="20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15683-833D-4718-A0D1-FB944423ED0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general)</a:t>
            </a:r>
            <a:endParaRPr b="0" lang="en-US" sz="28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ing data limited to what light, wearable, unobtrusive sensors can provid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terpretation process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e tailored to the person's specific physiology, and adaptable to the person's environmental conditions and to the commander’s informative need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ridge a gap between noisy, incomplete and unreliable data and a set of loosely-defined situation model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Provision must be made for uncertainty, both because of the sensors' rather low quality, and the inherent ambiguity of human activity observations </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lutions must be found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rive the interpretation process across several levels of abstractions, combining multiple evidences, generating and processing concurrent hypothese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cope with evolving data, situation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esign an architecture obeying principles like scalability, declarativity and independence (of sensors, models and algorithms), individualization (to personal proles) and robustnes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evaluate the proposed system</a:t>
            </a:r>
            <a:endParaRPr b="0" lang="en-US" sz="1600" spc="-1" strike="noStrike">
              <a:solidFill>
                <a:srgbClr val="000000"/>
              </a:solidFill>
              <a:latin typeface="Perpetua"/>
            </a:endParaRPr>
          </a:p>
        </p:txBody>
      </p:sp>
      <p:sp>
        <p:nvSpPr>
          <p:cNvPr id="2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51E2B-C1F6-44B2-8C43-2F9174A6B48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interpretation)</a:t>
            </a:r>
            <a:endParaRPr b="0" lang="en-US" sz="28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makin:g not a state of knowledge, but « a process of fitting data into a frame that is continuously replaced and adapted to fit the data ».1</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embedded into a multidimensional frame involving high-level functional and non-functional stances:</a:t>
            </a:r>
            <a:endParaRPr b="0" lang="en-US" sz="20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stances: task independent (departure from basal physiological status) or task dependent (departure from expected scenario)</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 functional stances: effectiveness, efficiency and informativeness of the interpretation process.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to be driven toward specific hypotheses, or within a certain performance range, depending on its current compliance to these stances</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frame of interpretation is meant as continuously refined (respectively relaxed or reinforced), to cope with the evolving situations (respectively normal or critical) or expectations from the person in charge of monitoring).</a:t>
            </a:r>
            <a:endParaRPr b="0" lang="en-US" sz="2000" spc="-1" strike="noStrike">
              <a:solidFill>
                <a:srgbClr val="000000"/>
              </a:solidFill>
              <a:latin typeface="Perpetua"/>
            </a:endParaRPr>
          </a:p>
        </p:txBody>
      </p:sp>
      <p:sp>
        <p:nvSpPr>
          <p:cNvPr id="3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08930-0A61-4C90-967F-089220FFE34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1)</a:t>
            </a:r>
            <a:endParaRPr b="0" lang="en-US" sz="28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distinction that do not draw on some mere hierarchical viewpoint, but rather on types of domain knowledge, universe of discourse and worlds of decision</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1 – « Data » - acquisition and featuring steps (HR standard deviation (sliding window 10s), Position Angl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2 - « State » - context-free but personnalized modeling and fusion of data (e.g. « basal », « phonation », « exertion » or « sitting ») - atomic components of more abstract Micro-Scenarios - refers to the closed, numerical world of Data, in a way detached from activity semantics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3 - « Micro-scenario » - and-or conjunction of states within some context (e.g. « read-journal » or « phone-call ») - possible steps in a longer Scenario -  refers to the open, symbolical world of human activity, detached (or loosely related to) from the world of Data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4 - « Scenarios » - loosely known, temporal sequence of micro-scenarios (e.g. office work, mountain hiking…) </a:t>
            </a:r>
            <a:endParaRPr b="0" lang="en-US" sz="2000" spc="-1" strike="noStrike">
              <a:solidFill>
                <a:srgbClr val="000000"/>
              </a:solidFill>
              <a:latin typeface="Perpetua"/>
            </a:endParaRPr>
          </a:p>
        </p:txBody>
      </p:sp>
      <p:sp>
        <p:nvSpPr>
          <p:cNvPr id="30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1F37E-46FD-4493-AD25-52E229328B1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41F9B-3E57-46DE-A5BD-E2EE3CC2846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4" name="Image 6" descr=""/>
          <p:cNvPicPr/>
          <p:nvPr/>
        </p:nvPicPr>
        <p:blipFill>
          <a:blip r:embed="rId1"/>
          <a:stretch/>
        </p:blipFill>
        <p:spPr>
          <a:xfrm>
            <a:off x="1230480" y="415800"/>
            <a:ext cx="6618240" cy="2921040"/>
          </a:xfrm>
          <a:prstGeom prst="rect">
            <a:avLst/>
          </a:prstGeom>
          <a:ln w="0">
            <a:noFill/>
          </a:ln>
        </p:spPr>
      </p:pic>
      <p:pic>
        <p:nvPicPr>
          <p:cNvPr id="315" name="Image 8" descr=""/>
          <p:cNvPicPr/>
          <p:nvPr/>
        </p:nvPicPr>
        <p:blipFill>
          <a:blip r:embed="rId2"/>
          <a:stretch/>
        </p:blipFill>
        <p:spPr>
          <a:xfrm>
            <a:off x="754200" y="3635280"/>
            <a:ext cx="757080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2:25:40Z</dcterms:created>
  <dc:creator>Garbay Catherine</dc:creator>
  <dc:description/>
  <dc:language>en-US</dc:language>
  <cp:lastModifiedBy>Garbay Catherine</cp:lastModifiedBy>
  <cp:lastPrinted>2013-06-12T14:28:04Z</cp:lastPrinted>
  <dcterms:modified xsi:type="dcterms:W3CDTF">2013-08-30T03:02:23Z</dcterms:modified>
  <cp:revision>523</cp:revision>
  <dc:subject/>
  <dc:title>L’intelligence ambiante</dc:title>
</cp:coreProperties>
</file>